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7F6E-126C-45A2-B45C-373C0F07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137C-8128-40C9-890E-4D49DA2B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62D9-68F5-436A-8367-08953190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51D5-E077-47BC-AF49-D9260BF0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8AB-A559-490E-8E82-7FCEA5B9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0B71-7889-454B-9643-D5A8D90D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C255-46A6-426F-A739-74A8E1A4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5321-07AE-4B53-9A01-BD4E1E52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7DF3-7BF1-43B8-86DD-AA13F2B6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9954-AC15-495F-9480-63DC099A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1E1B-1ADB-4EAF-A773-AEF741F7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DB5E-1A00-472F-842F-367121EC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B78B-F54D-432C-8B47-0BDC657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8D02-1E72-4B0C-A390-63620EC9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384F-C0DC-4B7C-8B66-3999C18C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2D28-0A97-45D8-87A2-D2C4B688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A045-A791-4C29-9072-6403B249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5A29-D44F-48D0-8D49-5F0D0B76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783C-CD19-431F-B9E8-CA454AC0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8B2E-A2CD-4CEB-9C6C-709EDFD2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AF98-15A2-49BC-8A79-073C2547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7875-E5E2-4ADB-B9C6-B153709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3820-0C45-4932-98B2-D389896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1CD2-D6FB-4A09-BDF0-5F7A4F1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B50C-5732-4E33-88DC-2B85BDC208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1B1F-F287-4C24-8DE9-F8FEAA509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ursday, November 13th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remaining trig fun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sc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= 5 and cos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540160" y="1830240"/>
          <a:ext cx="406368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523880" y="1913040"/>
          <a:ext cx="6096240" cy="39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function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the problem is in radians, 90° will be replaced with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2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ef6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def6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ef6"/>
                </a:solidFill>
                <a:latin typeface="Arial"/>
              </a:rPr>
              <a:t>Simplifying Trigonometric Identities</a:t>
            </a:r>
            <a:endParaRPr b="0" lang="en-US" sz="6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def6"/>
                </a:solidFill>
                <a:latin typeface="Arial"/>
              </a:rPr>
              <a:t>To simplify a trig identity means to rewrite it in as few terms/quantities as possible</a:t>
            </a:r>
            <a:endParaRPr b="0" lang="en-US" sz="5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To do this we use trig identity properti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.  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 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 Tan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pg 381 #1-13)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(</a:t>
            </a:r>
            <a:r>
              <a:rPr b="0" lang="en-US" sz="4000" spc="-1" strike="noStrike" baseline="30000">
                <a:solidFill>
                  <a:srgbClr val="dfdef6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x) Cot x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s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(1 + Tan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dfdef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ify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Tan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/(Sec</a:t>
            </a:r>
            <a:r>
              <a:rPr b="0" lang="en-US" sz="4000" spc="-1" strike="noStrike" baseline="30000">
                <a:solidFill>
                  <a:srgbClr val="dfdef6"/>
                </a:solidFill>
                <a:latin typeface="Arial"/>
                <a:ea typeface="Arial"/>
              </a:rPr>
              <a:t>2</a:t>
            </a:r>
            <a:r>
              <a:rPr b="0" lang="el-GR" sz="4000" spc="-1" strike="noStrike">
                <a:solidFill>
                  <a:srgbClr val="dfdef6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Page 381</a:t>
            </a:r>
            <a:br>
              <a:rPr sz="7500"/>
            </a:br>
            <a:r>
              <a:rPr b="0" lang="en-US" sz="7500" spc="-1" strike="noStrike">
                <a:solidFill>
                  <a:srgbClr val="dfdef6"/>
                </a:solidFill>
                <a:latin typeface="Arial"/>
              </a:rPr>
              <a:t>#31-41</a:t>
            </a:r>
            <a:endParaRPr b="0" lang="en-US" sz="75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34Z</dcterms:created>
  <dc:creator>jnewman</dc:creator>
  <dc:description/>
  <dc:language>en-US</dc:language>
  <cp:lastModifiedBy>abeason</cp:lastModifiedBy>
  <dcterms:modified xsi:type="dcterms:W3CDTF">2008-11-13T19:06:34Z</dcterms:modified>
  <cp:revision>9</cp:revision>
  <dc:subject/>
  <dc:title>Lesson 5.1 part two</dc:title>
</cp:coreProperties>
</file>